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5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0.wmf" ContentType="image/x-wmf"/>
  <Override PartName="/ppt/media/image6.png" ContentType="image/png"/>
  <Override PartName="/ppt/media/image54.png" ContentType="image/png"/>
  <Override PartName="/ppt/media/image108.wmf" ContentType="image/x-wmf"/>
  <Override PartName="/ppt/media/image15.wmf" ContentType="image/x-wmf"/>
  <Override PartName="/ppt/media/image80.wmf" ContentType="image/x-wmf"/>
  <Override PartName="/ppt/media/image51.wmf" ContentType="image/x-wmf"/>
  <Override PartName="/ppt/media/image11.png" ContentType="image/png"/>
  <Override PartName="/ppt/media/image79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2.png" ContentType="image/png"/>
  <Override PartName="/ppt/media/image2.png" ContentType="image/png"/>
  <Override PartName="/ppt/media/image14.wmf" ContentType="image/x-wmf"/>
  <Override PartName="/ppt/media/image3.png" ContentType="image/png"/>
  <Override PartName="/ppt/media/image29.wmf" ContentType="image/x-wmf"/>
  <Override PartName="/ppt/media/image94.wmf" ContentType="image/x-wmf"/>
  <Override PartName="/ppt/media/image1.png" ContentType="image/png"/>
  <Override PartName="/ppt/media/image16.wmf" ContentType="image/x-wmf"/>
  <Override PartName="/ppt/media/image81.wmf" ContentType="image/x-wmf"/>
  <Override PartName="/ppt/media/image17.wmf" ContentType="image/x-wmf"/>
  <Override PartName="/ppt/media/image82.wmf" ContentType="image/x-wmf"/>
  <Override PartName="/ppt/media/image18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71.wmf" ContentType="image/x-wmf"/>
  <Override PartName="/ppt/media/image115.wmf" ContentType="image/x-wmf"/>
  <Override PartName="/ppt/media/image72.wmf" ContentType="image/x-wmf"/>
  <Override PartName="/ppt/media/image116.wmf" ContentType="image/x-wmf"/>
  <Override PartName="/ppt/media/image73.wmf" ContentType="image/x-wmf"/>
  <Override PartName="/ppt/media/image74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75.wmf" ContentType="image/x-wmf"/>
  <Override PartName="/ppt/media/image92.png" ContentType="image/png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96.wmf" ContentType="image/x-wmf"/>
  <Override PartName="/ppt/media/image103.wmf" ContentType="image/x-wmf"/>
  <Override PartName="/ppt/media/image95.wmf" ContentType="image/x-wmf"/>
  <Override PartName="/ppt/media/image102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27.wmf" ContentType="image/x-wmf"/>
  <Override PartName="/ppt/media/image101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12.wmf" ContentType="image/x-wmf"/>
  <Override PartName="/ppt/media/image89.wmf" ContentType="image/x-wmf"/>
  <Override PartName="/ppt/media/image111.wmf" ContentType="image/x-wmf"/>
  <Override PartName="/ppt/media/image120.wmf" ContentType="image/x-wmf"/>
  <Override PartName="/ppt/media/image69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8.wmf" ContentType="image/x-wmf"/>
  <Override PartName="/ppt/media/image93.wmf" ContentType="image/x-wmf"/>
  <Override PartName="/ppt/media/image26.wmf" ContentType="image/x-wmf"/>
  <Override PartName="/ppt/media/image91.wmf" ContentType="image/x-wmf"/>
  <Override PartName="/ppt/media/image68.png" ContentType="image/png"/>
  <Override PartName="/ppt/media/image25.wmf" ContentType="image/x-wmf"/>
  <Override PartName="/ppt/media/image90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84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69C-7E2B-4F8D-B85A-C82329D0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E1C-53C2-4D13-BF4D-AAAD5332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B4B-BF6A-4BF6-949E-1E299C38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AF4B-57EE-4D09-A5C8-CDEDEB73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BFF-4B53-45A1-B766-10F6DCF8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0B0-21BD-4AED-8036-D28123C1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5E2-D42E-4B48-B927-8DD2767D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BF1-57CB-4AA1-AA42-390C57AD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3BD-FFB0-415E-9B26-3029747F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DDC-E82C-4259-8E69-4AFA3A0F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35D-F1D5-4BF9-87EB-7C467A9D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C4F-35F5-44BD-9E66-525BC431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6819-70E7-42E2-A3D4-832FB3E09B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5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57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58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59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60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61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62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63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64.wmf"/><Relationship Id="rId28" Type="http://schemas.openxmlformats.org/officeDocument/2006/relationships/oleObject" Target="../embeddings/oleObject11.bin"/><Relationship Id="rId29" Type="http://schemas.openxmlformats.org/officeDocument/2006/relationships/image" Target="../media/image65.wmf"/><Relationship Id="rId30" Type="http://schemas.openxmlformats.org/officeDocument/2006/relationships/oleObject" Target="../embeddings/oleObject12.bin"/><Relationship Id="rId31" Type="http://schemas.openxmlformats.org/officeDocument/2006/relationships/image" Target="../media/image66.wmf"/><Relationship Id="rId32" Type="http://schemas.openxmlformats.org/officeDocument/2006/relationships/oleObject" Target="../embeddings/oleObject13.bin"/><Relationship Id="rId33" Type="http://schemas.openxmlformats.org/officeDocument/2006/relationships/image" Target="../media/image67.wmf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68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9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70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71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72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73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74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75.wmf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8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81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8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83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84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85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86.wmf"/><Relationship Id="rId29" Type="http://schemas.openxmlformats.org/officeDocument/2006/relationships/oleObject" Target="../embeddings/oleObject12.bin"/><Relationship Id="rId30" Type="http://schemas.openxmlformats.org/officeDocument/2006/relationships/image" Target="../media/image87.wmf"/><Relationship Id="rId31" Type="http://schemas.openxmlformats.org/officeDocument/2006/relationships/oleObject" Target="../embeddings/oleObject13.bin"/><Relationship Id="rId32" Type="http://schemas.openxmlformats.org/officeDocument/2006/relationships/image" Target="../media/image88.wmf"/><Relationship Id="rId3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9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90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91.wmf"/><Relationship Id="rId14" Type="http://schemas.openxmlformats.org/officeDocument/2006/relationships/image" Target="../media/image92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5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6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97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98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99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00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01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102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103.wmf"/><Relationship Id="rId29" Type="http://schemas.openxmlformats.org/officeDocument/2006/relationships/oleObject" Target="../embeddings/oleObject12.bin"/><Relationship Id="rId30" Type="http://schemas.openxmlformats.org/officeDocument/2006/relationships/image" Target="../media/image104.wmf"/><Relationship Id="rId3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0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0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06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07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08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09.wmf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1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0.wmf"/><Relationship Id="rId24" Type="http://schemas.openxmlformats.org/officeDocument/2006/relationships/hyperlink" Target="file:///tmp/home/.config/libreoffice/4/user/gallery/TingBell3.wav" TargetMode="External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.wm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5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6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7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8.wm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27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28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29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30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31.wmf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3.wmf"/><Relationship Id="rId11" Type="http://schemas.openxmlformats.org/officeDocument/2006/relationships/image" Target="../media/image32.png"/><Relationship Id="rId12" Type="http://schemas.openxmlformats.org/officeDocument/2006/relationships/image" Target="../media/image34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7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38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39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40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41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42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43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44.wmf"/><Relationship Id="rId28" Type="http://schemas.openxmlformats.org/officeDocument/2006/relationships/oleObject" Target="../embeddings/oleObject11.bin"/><Relationship Id="rId29" Type="http://schemas.openxmlformats.org/officeDocument/2006/relationships/image" Target="../media/image45.wmf"/><Relationship Id="rId30" Type="http://schemas.openxmlformats.org/officeDocument/2006/relationships/oleObject" Target="../embeddings/oleObject12.bin"/><Relationship Id="rId31" Type="http://schemas.openxmlformats.org/officeDocument/2006/relationships/image" Target="../media/image46.wmf"/><Relationship Id="rId32" Type="http://schemas.openxmlformats.org/officeDocument/2006/relationships/oleObject" Target="../embeddings/oleObject13.bin"/><Relationship Id="rId33" Type="http://schemas.openxmlformats.org/officeDocument/2006/relationships/image" Target="../media/image47.wmf"/><Relationship Id="rId34" Type="http://schemas.openxmlformats.org/officeDocument/2006/relationships/oleObject" Target="../embeddings/oleObject14.bin"/><Relationship Id="rId35" Type="http://schemas.openxmlformats.org/officeDocument/2006/relationships/image" Target="../media/image48.wmf"/><Relationship Id="rId36" Type="http://schemas.openxmlformats.org/officeDocument/2006/relationships/oleObject" Target="../embeddings/oleObject15.bin"/><Relationship Id="rId37" Type="http://schemas.openxmlformats.org/officeDocument/2006/relationships/image" Target="../media/image49.wmf"/><Relationship Id="rId38" Type="http://schemas.openxmlformats.org/officeDocument/2006/relationships/oleObject" Target="../embeddings/oleObject16.bin"/><Relationship Id="rId39" Type="http://schemas.openxmlformats.org/officeDocument/2006/relationships/image" Target="../media/image50.wmf"/><Relationship Id="rId4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52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53.wmf"/><Relationship Id="rId14" Type="http://schemas.openxmlformats.org/officeDocument/2006/relationships/image" Target="../media/image54.png"/><Relationship Id="rId15" Type="http://schemas.openxmlformats.org/officeDocument/2006/relationships/image" Target="../media/image54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01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phs &amp;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8400" y="3857760"/>
            <a:ext cx="7732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84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gher M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960" y="333360"/>
            <a:ext cx="809640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93840" y="618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lick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2920" y="543384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7562880" y="43084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48480" y="744480"/>
            <a:ext cx="7446240" cy="2358000"/>
            <a:chOff x="348480" y="744480"/>
            <a:chExt cx="7446240" cy="2358000"/>
          </a:xfrm>
        </p:grpSpPr>
        <p:sp>
          <p:nvSpPr>
            <p:cNvPr id="303" name=""/>
            <p:cNvSpPr/>
            <p:nvPr/>
          </p:nvSpPr>
          <p:spPr>
            <a:xfrm>
              <a:off x="348480" y="759960"/>
              <a:ext cx="4290840" cy="23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e defined on a suitable set of real number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)   Find expressions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)                                ii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)    i)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how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)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nd a similar expression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d hence solve the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4" name=""/>
            <p:cNvGraphicFramePr/>
            <p:nvPr/>
          </p:nvGraphicFramePr>
          <p:xfrm>
            <a:off x="1508040" y="744480"/>
            <a:ext cx="3772080" cy="4208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0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08040" y="744480"/>
                      <a:ext cx="377208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6" name=""/>
            <p:cNvGraphicFramePr/>
            <p:nvPr/>
          </p:nvGraphicFramePr>
          <p:xfrm>
            <a:off x="1281240" y="1700280"/>
            <a:ext cx="780840" cy="2984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281240" y="1700280"/>
                      <a:ext cx="7808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"/>
            <p:cNvGraphicFramePr/>
            <p:nvPr/>
          </p:nvGraphicFramePr>
          <p:xfrm>
            <a:off x="3322800" y="1695600"/>
            <a:ext cx="738000" cy="2919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322800" y="1695600"/>
                      <a:ext cx="73800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0" name=""/>
            <p:cNvGraphicFramePr/>
            <p:nvPr/>
          </p:nvGraphicFramePr>
          <p:xfrm>
            <a:off x="2473200" y="1957320"/>
            <a:ext cx="2498760" cy="4654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473200" y="1957320"/>
                      <a:ext cx="2498760" cy="46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2" name=""/>
            <p:cNvGraphicFramePr/>
            <p:nvPr/>
          </p:nvGraphicFramePr>
          <p:xfrm>
            <a:off x="4170240" y="2433600"/>
            <a:ext cx="676440" cy="2685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170240" y="2433600"/>
                      <a:ext cx="67644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4" name=""/>
            <p:cNvGraphicFramePr/>
            <p:nvPr/>
          </p:nvGraphicFramePr>
          <p:xfrm>
            <a:off x="4132440" y="2748240"/>
            <a:ext cx="3662280" cy="3189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132440" y="2748240"/>
                      <a:ext cx="366228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6" name=""/>
          <p:cNvGraphicFramePr/>
          <p:nvPr/>
        </p:nvGraphicFramePr>
        <p:xfrm>
          <a:off x="1281240" y="3279600"/>
          <a:ext cx="2068560" cy="541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281240" y="3279600"/>
                    <a:ext cx="20685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5600" y="334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548160" y="3265560"/>
          <a:ext cx="1306440" cy="541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548160" y="3265560"/>
                    <a:ext cx="1306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241960" y="3265560"/>
          <a:ext cx="2198520" cy="541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241960" y="3265560"/>
                    <a:ext cx="2198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46040" y="3976560"/>
          <a:ext cx="3505320" cy="5414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346040" y="3976560"/>
                    <a:ext cx="35053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614880" y="40053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89320" y="4087800"/>
            <a:ext cx="2172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use exact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44360" y="4564080"/>
            <a:ext cx="1404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 for 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44000" y="5157720"/>
            <a:ext cx="1963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ation reduce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160800" y="4962600"/>
          <a:ext cx="1190520" cy="6508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160800" y="4962600"/>
                    <a:ext cx="11905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4649760" y="4930920"/>
          <a:ext cx="1611360" cy="6872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649760" y="4930920"/>
                    <a:ext cx="16113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6647040" y="4978440"/>
          <a:ext cx="1035000" cy="5904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6647040" y="4978440"/>
                    <a:ext cx="10350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3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505560" y="51069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2000-1 Q 2" descr=""/>
          <p:cNvPicPr/>
          <p:nvPr/>
        </p:nvPicPr>
        <p:blipFill>
          <a:blip r:embed="rId8"/>
          <a:stretch/>
        </p:blipFill>
        <p:spPr>
          <a:xfrm>
            <a:off x="6470640" y="790560"/>
            <a:ext cx="2295360" cy="1743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245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0" y="31600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39480" y="809640"/>
            <a:ext cx="6581520" cy="2015640"/>
            <a:chOff x="339480" y="809640"/>
            <a:chExt cx="6581520" cy="2015640"/>
          </a:xfrm>
        </p:grpSpPr>
        <p:sp>
          <p:nvSpPr>
            <p:cNvPr id="352" name=""/>
            <p:cNvSpPr/>
            <p:nvPr/>
          </p:nvSpPr>
          <p:spPr>
            <a:xfrm>
              <a:off x="339480" y="809640"/>
              <a:ext cx="6581520" cy="20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sketch of the graph of y = f(x) where                         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s show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he graph has a maximum at A and a minimum at B(3, 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)   Find the co-ordinates of the turning point at A.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)   Hence, sketch the graph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dicate the co-ordinates of the turning points. There is no need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alculate the co-ordinates of the points of intersection with the axes.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)   Write down the range of values of k  for which g(x) = k has 3 real root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3" name=""/>
            <p:cNvGraphicFramePr/>
            <p:nvPr/>
          </p:nvGraphicFramePr>
          <p:xfrm>
            <a:off x="3657600" y="822240"/>
            <a:ext cx="1706400" cy="308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57600" y="822240"/>
                      <a:ext cx="1706400" cy="3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5" name=""/>
            <p:cNvGraphicFramePr/>
            <p:nvPr/>
          </p:nvGraphicFramePr>
          <p:xfrm>
            <a:off x="2941560" y="1709640"/>
            <a:ext cx="1662120" cy="279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41560" y="1709640"/>
                      <a:ext cx="1662120" cy="27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7" name=""/>
          <p:cNvSpPr/>
          <p:nvPr/>
        </p:nvSpPr>
        <p:spPr>
          <a:xfrm>
            <a:off x="1440" y="39934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9680" y="3170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41480" y="3203640"/>
            <a:ext cx="1352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612880" y="3173400"/>
          <a:ext cx="2357640" cy="415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12880" y="3173400"/>
                    <a:ext cx="23576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5179320" y="3198960"/>
            <a:ext cx="1628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SP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110360" y="3195720"/>
          <a:ext cx="1571760" cy="369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10360" y="3195720"/>
                    <a:ext cx="157176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1041480" y="3716280"/>
            <a:ext cx="1207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x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612880" y="3716280"/>
          <a:ext cx="669960" cy="370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12880" y="3716280"/>
                    <a:ext cx="669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3563280" y="3716280"/>
            <a:ext cx="1195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.p. at A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5054760" y="3716280"/>
          <a:ext cx="715680" cy="37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54760" y="3716280"/>
                    <a:ext cx="7156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498960" y="43657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42560" y="4365720"/>
            <a:ext cx="962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39920" y="434808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moved 2 units to the left, and 4 units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7559640" y="4280040"/>
          <a:ext cx="1273320" cy="547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9640" y="4280040"/>
                    <a:ext cx="1273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6279480" y="4375080"/>
            <a:ext cx="1099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.p.’s 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9680" y="50133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33920" y="5013360"/>
            <a:ext cx="5109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3 real roots, line y = k has to cut graph at 3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96160" y="5464080"/>
            <a:ext cx="24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rom the graph, k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462800" y="43815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89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44160" y="900000"/>
            <a:ext cx="6375960" cy="1303560"/>
            <a:chOff x="344160" y="900000"/>
            <a:chExt cx="6375960" cy="1303560"/>
          </a:xfrm>
        </p:grpSpPr>
        <p:graphicFrame>
          <p:nvGraphicFramePr>
            <p:cNvPr id="394" name=""/>
            <p:cNvGraphicFramePr/>
            <p:nvPr/>
          </p:nvGraphicFramePr>
          <p:xfrm>
            <a:off x="369720" y="900000"/>
            <a:ext cx="3659040" cy="484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9720" y="900000"/>
                      <a:ext cx="36590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344160" y="1384200"/>
              <a:ext cx="63759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)   Fin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)   If                                      find                     in its simplest form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7" name=""/>
            <p:cNvGraphicFramePr/>
            <p:nvPr/>
          </p:nvGraphicFramePr>
          <p:xfrm>
            <a:off x="1396800" y="1417680"/>
            <a:ext cx="2639880" cy="29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96800" y="1417680"/>
                      <a:ext cx="263988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9" name=""/>
            <p:cNvGraphicFramePr/>
            <p:nvPr/>
          </p:nvGraphicFramePr>
          <p:xfrm>
            <a:off x="1101600" y="1689120"/>
            <a:ext cx="1761840" cy="514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0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101600" y="1689120"/>
                      <a:ext cx="1761840" cy="51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1" name=""/>
            <p:cNvGraphicFramePr/>
            <p:nvPr/>
          </p:nvGraphicFramePr>
          <p:xfrm>
            <a:off x="3695400" y="1836720"/>
            <a:ext cx="776160" cy="297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95400" y="1836720"/>
                      <a:ext cx="776160" cy="2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3" name=""/>
          <p:cNvGraphicFramePr/>
          <p:nvPr/>
        </p:nvGraphicFramePr>
        <p:xfrm>
          <a:off x="1066680" y="2589120"/>
          <a:ext cx="2635200" cy="601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66680" y="2589120"/>
                    <a:ext cx="263520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397800" y="26622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940200" y="2585880"/>
          <a:ext cx="993600" cy="579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40200" y="2585880"/>
                    <a:ext cx="9936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5227560" y="2602080"/>
          <a:ext cx="1063800" cy="579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27560" y="2602080"/>
                    <a:ext cx="1063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6662880" y="2602080"/>
          <a:ext cx="1203120" cy="579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62880" y="2602080"/>
                    <a:ext cx="12031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397080" y="3645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120680" y="3246480"/>
          <a:ext cx="3167280" cy="1109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120680" y="3246480"/>
                    <a:ext cx="316728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4927680" y="3408480"/>
          <a:ext cx="2313000" cy="785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7680" y="3408480"/>
                    <a:ext cx="231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949320" y="4497480"/>
          <a:ext cx="2637000" cy="785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49320" y="4497480"/>
                    <a:ext cx="26370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4000680" y="4532400"/>
          <a:ext cx="1665000" cy="716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00680" y="4532400"/>
                    <a:ext cx="16650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6688080" y="4740120"/>
          <a:ext cx="601560" cy="3002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688080" y="4740120"/>
                    <a:ext cx="60156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24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6664320" y="41194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1040" y="916200"/>
            <a:ext cx="532440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graph of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shown in the dia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separate diagrams sketch the graph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te on each graph the images of O, A, B, C, and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2297160" y="961920"/>
          <a:ext cx="890640" cy="306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97160" y="961920"/>
                    <a:ext cx="8906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682560" y="1671480"/>
          <a:ext cx="1160640" cy="30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2560" y="1671480"/>
                    <a:ext cx="1160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2587680" y="1647720"/>
          <a:ext cx="1123920" cy="306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87680" y="1647720"/>
                    <a:ext cx="112392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3" name="" descr=""/>
          <p:cNvPicPr/>
          <p:nvPr/>
        </p:nvPicPr>
        <p:blipFill>
          <a:blip r:embed="rId14"/>
          <a:stretch/>
        </p:blipFill>
        <p:spPr>
          <a:xfrm>
            <a:off x="6437160" y="835200"/>
            <a:ext cx="2183040" cy="18079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97800" y="26622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7080" y="3645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74520" y="2698920"/>
            <a:ext cx="32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graph moves to the left 1 un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2360" y="3616200"/>
            <a:ext cx="331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graph is reflected in the x ax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58040" y="4075200"/>
            <a:ext cx="481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graph is then scaled 2 units in the y dir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5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3760920" y="541332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0680" y="915120"/>
            <a:ext cx="58971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d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defined on the set of real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  Find formulae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)                                        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  The function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s defined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 that                              and sketch the graph of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   Find the area enclosed between this graph and the x-ax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803160" y="1200240"/>
          <a:ext cx="275616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3160" y="1200240"/>
                    <a:ext cx="27561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1108080" y="1932120"/>
          <a:ext cx="801720" cy="29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8080" y="1932120"/>
                    <a:ext cx="8017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616200" y="1938240"/>
          <a:ext cx="801720" cy="29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6200" y="1938240"/>
                    <a:ext cx="8017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3616200" y="2328840"/>
          <a:ext cx="2274840" cy="28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16200" y="2328840"/>
                    <a:ext cx="2274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868400" y="2693880"/>
          <a:ext cx="1390680" cy="324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68400" y="2693880"/>
                    <a:ext cx="13906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442440" y="344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1720" y="42400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157400" y="3438360"/>
          <a:ext cx="2774880" cy="416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57400" y="3438360"/>
                    <a:ext cx="277488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4546440" y="3378240"/>
          <a:ext cx="3168720" cy="509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46440" y="3378240"/>
                    <a:ext cx="31687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1158840" y="4160880"/>
          <a:ext cx="2452680" cy="507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58840" y="4160880"/>
                    <a:ext cx="24526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3967200" y="4148280"/>
          <a:ext cx="2800440" cy="415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967200" y="4148280"/>
                    <a:ext cx="28004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7062840" y="4181400"/>
          <a:ext cx="1341360" cy="370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62840" y="4181400"/>
                    <a:ext cx="13413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442440" y="4941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51920" y="497376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Graph cuts x axis at 0 an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85080" y="49737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w evalu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981760" y="4842000"/>
          <a:ext cx="1617480" cy="600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981760" y="4842000"/>
                    <a:ext cx="16174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2546280" y="5376960"/>
          <a:ext cx="995400" cy="716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546280" y="5376960"/>
                    <a:ext cx="9954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1802880" y="5532480"/>
            <a:ext cx="683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re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5530680" y="40179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51000" y="846000"/>
            <a:ext cx="5752800" cy="1410120"/>
            <a:chOff x="351000" y="846000"/>
            <a:chExt cx="5752800" cy="1410120"/>
          </a:xfrm>
        </p:grpSpPr>
        <p:sp>
          <p:nvSpPr>
            <p:cNvPr id="506" name=""/>
            <p:cNvSpPr/>
            <p:nvPr/>
          </p:nvSpPr>
          <p:spPr>
            <a:xfrm>
              <a:off x="351000" y="846000"/>
              <a:ext cx="575280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functions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and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are defined on a suitable domain b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)   Find an expression for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)   Factorise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7" name=""/>
            <p:cNvGraphicFramePr/>
            <p:nvPr/>
          </p:nvGraphicFramePr>
          <p:xfrm>
            <a:off x="1779480" y="1184400"/>
            <a:ext cx="3040200" cy="347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79480" y="1184400"/>
                      <a:ext cx="304020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9" name=""/>
            <p:cNvGraphicFramePr/>
            <p:nvPr/>
          </p:nvGraphicFramePr>
          <p:xfrm>
            <a:off x="2970360" y="1547640"/>
            <a:ext cx="801720" cy="2955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1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970360" y="1547640"/>
                      <a:ext cx="801720" cy="29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1" name=""/>
            <p:cNvGraphicFramePr/>
            <p:nvPr/>
          </p:nvGraphicFramePr>
          <p:xfrm>
            <a:off x="1803240" y="1919160"/>
            <a:ext cx="792360" cy="2923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1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803240" y="1919160"/>
                      <a:ext cx="792360" cy="2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13" name=""/>
          <p:cNvSpPr/>
          <p:nvPr/>
        </p:nvSpPr>
        <p:spPr>
          <a:xfrm>
            <a:off x="472680" y="2720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096920" y="2644920"/>
          <a:ext cx="3884760" cy="554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96920" y="2644920"/>
                    <a:ext cx="38847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4168800" y="3314880"/>
          <a:ext cx="3284640" cy="553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68800" y="3314880"/>
                    <a:ext cx="3284640" cy="55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"/>
          <p:cNvSpPr/>
          <p:nvPr/>
        </p:nvSpPr>
        <p:spPr>
          <a:xfrm>
            <a:off x="1019880" y="3395520"/>
            <a:ext cx="2568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ce of 2 squ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24560" y="4076640"/>
            <a:ext cx="1072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2773440" y="4025880"/>
          <a:ext cx="2127240" cy="507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773440" y="4025880"/>
                    <a:ext cx="21272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471960" y="34005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 in thi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rId1" action="ppaction://hlinksldjump"/>
          </p:cNvPr>
          <p:cNvSpPr/>
          <p:nvPr/>
        </p:nvSpPr>
        <p:spPr>
          <a:xfrm>
            <a:off x="7450200" y="587232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86480" y="634356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" action="ppaction://hlinkshowjump?jump=endshow"/>
          </p:cNvPr>
          <p:cNvSpPr/>
          <p:nvPr/>
        </p:nvSpPr>
        <p:spPr>
          <a:xfrm>
            <a:off x="4313160" y="6122880"/>
            <a:ext cx="531720" cy="5320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5820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2312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3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>
            <a:hlinkClick r:id="" action="ppaction://hlinkshowjump?jump=previousslide"/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08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phs &amp; Funct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90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questions ar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94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alculator questions will be in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867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86720" y="3216240"/>
            <a:ext cx="747720" cy="1003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36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a pencil, paper, ruler and rub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50482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56360" y="48448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226080" y="888480"/>
            <a:ext cx="64292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diagram shows the graph of a function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has a minimum turning point at (0, -3) and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int of inflexion at (-4,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)  sketch the graph of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)  On the same diagram, sketch the graph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157800" y="826920"/>
            <a:ext cx="2490840" cy="2078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6600" y="2836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68040" y="2859120"/>
            <a:ext cx="241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lect across the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5880" y="4414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66960" y="4437000"/>
            <a:ext cx="3219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scale by 2 in the y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4592520" y="2840040"/>
            <a:ext cx="3483000" cy="287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rcRect l="0" t="26491" r="0" b="0"/>
          <a:stretch/>
        </p:blipFill>
        <p:spPr>
          <a:xfrm>
            <a:off x="5337000" y="2712960"/>
            <a:ext cx="2818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981760" y="452592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0200" y="988920"/>
            <a:ext cx="3688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iagram shows a sketch of par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graph of a trigonometric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se equation is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 the values of a, b and 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4680" y="1658880"/>
          <a:ext cx="169884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4680" y="1658880"/>
                    <a:ext cx="16988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5638680" y="812880"/>
            <a:ext cx="3079800" cy="2633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8640" y="2932200"/>
            <a:ext cx="2168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the amplitud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1240" y="286704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8640" y="3710160"/>
            <a:ext cx="3141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the number of waves in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8720" y="3630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8640" y="4581360"/>
            <a:ext cx="4013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where the wave is centred vertic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41200" y="45180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78240" y="1335240"/>
            <a:ext cx="485640" cy="1814400"/>
            <a:chOff x="5178240" y="1335240"/>
            <a:chExt cx="485640" cy="1814400"/>
          </a:xfrm>
        </p:grpSpPr>
        <p:sp>
          <p:nvSpPr>
            <p:cNvPr id="99" name=""/>
            <p:cNvSpPr/>
            <p:nvPr/>
          </p:nvSpPr>
          <p:spPr>
            <a:xfrm>
              <a:off x="5443560" y="1335240"/>
              <a:ext cx="0" cy="18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78240" y="1938240"/>
              <a:ext cx="485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051600" y="2857680"/>
            <a:ext cx="1930320" cy="821160"/>
            <a:chOff x="6051600" y="2857680"/>
            <a:chExt cx="1930320" cy="821160"/>
          </a:xfrm>
        </p:grpSpPr>
        <p:sp>
          <p:nvSpPr>
            <p:cNvPr id="102" name=""/>
            <p:cNvSpPr/>
            <p:nvPr/>
          </p:nvSpPr>
          <p:spPr>
            <a:xfrm flipH="1">
              <a:off x="6051600" y="2857680"/>
              <a:ext cx="19303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8720" y="2975040"/>
              <a:ext cx="126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 in </a:t>
              </a:r>
              <a:r>
                <a:rPr b="0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2 in 2 </a:t>
              </a:r>
              <a:r>
                <a:rPr b="0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689000" y="2008080"/>
            <a:ext cx="1043640" cy="398880"/>
            <a:chOff x="4689000" y="2008080"/>
            <a:chExt cx="1043640" cy="398880"/>
          </a:xfrm>
        </p:grpSpPr>
        <p:sp>
          <p:nvSpPr>
            <p:cNvPr id="105" name=""/>
            <p:cNvSpPr/>
            <p:nvPr/>
          </p:nvSpPr>
          <p:spPr>
            <a:xfrm>
              <a:off x="4964040" y="2235240"/>
              <a:ext cx="76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89000" y="2008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75320" y="404640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0440" y="940320"/>
            <a:ext cx="819072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                            are defined on suitable dom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nd an expression for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 where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rite down any restrictions on the domain of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71760" y="831960"/>
          <a:ext cx="1272960" cy="620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71760" y="831960"/>
                    <a:ext cx="12729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42720" y="32490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494160" y="987480"/>
          <a:ext cx="1503360" cy="358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4160" y="987480"/>
                    <a:ext cx="150336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242720" y="3845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990720"/>
                <a:tab algn="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4320" y="2871720"/>
          <a:ext cx="2415960" cy="385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84320" y="2871720"/>
                    <a:ext cx="241596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26600" y="2836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828960" y="2690640"/>
          <a:ext cx="1643040" cy="747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828960" y="2690640"/>
                    <a:ext cx="164304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867280" y="2690640"/>
          <a:ext cx="2078280" cy="747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867280" y="2690640"/>
                    <a:ext cx="2078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25880" y="41497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03480" y="4170240"/>
          <a:ext cx="1158840" cy="338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03480" y="4170240"/>
                    <a:ext cx="115884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735280" y="4038480"/>
          <a:ext cx="1109520" cy="603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735280" y="4038480"/>
                    <a:ext cx="11095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237280" y="1295280"/>
            <a:ext cx="3308400" cy="35179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835520" y="536724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3240" y="414576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120" y="769320"/>
            <a:ext cx="739620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  Expres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in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  On the same diagram sk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   Find the range of values of x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                       is posi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1000" y="755640"/>
            <a:ext cx="4694040" cy="2162160"/>
            <a:chOff x="1521000" y="755640"/>
            <a:chExt cx="4694040" cy="2162160"/>
          </a:xfrm>
        </p:grpSpPr>
        <p:graphicFrame>
          <p:nvGraphicFramePr>
            <p:cNvPr id="156" name=""/>
            <p:cNvGraphicFramePr/>
            <p:nvPr/>
          </p:nvGraphicFramePr>
          <p:xfrm>
            <a:off x="1665360" y="762120"/>
            <a:ext cx="1857240" cy="374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65360" y="762120"/>
                      <a:ext cx="185724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"/>
            <p:cNvGraphicFramePr/>
            <p:nvPr/>
          </p:nvGraphicFramePr>
          <p:xfrm>
            <a:off x="5029200" y="755640"/>
            <a:ext cx="1185840" cy="374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029200" y="755640"/>
                      <a:ext cx="118584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" name=""/>
            <p:cNvGraphicFramePr/>
            <p:nvPr/>
          </p:nvGraphicFramePr>
          <p:xfrm>
            <a:off x="2684520" y="1498680"/>
            <a:ext cx="927000" cy="318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84520" y="1498680"/>
                      <a:ext cx="92700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2751120" y="1832040"/>
            <a:ext cx="1467000" cy="345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51120" y="1832040"/>
                      <a:ext cx="146700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1521000" y="2525760"/>
            <a:ext cx="1193760" cy="392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521000" y="2525760"/>
                      <a:ext cx="119376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6" name=""/>
          <p:cNvSpPr/>
          <p:nvPr/>
        </p:nvSpPr>
        <p:spPr>
          <a:xfrm>
            <a:off x="383760" y="3125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00000" y="3137040"/>
          <a:ext cx="1739880" cy="434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00000" y="3137040"/>
                    <a:ext cx="173988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782800" y="3125880"/>
          <a:ext cx="2175120" cy="434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82800" y="3125880"/>
                    <a:ext cx="21751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806560" y="3605040"/>
          <a:ext cx="1739880" cy="435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06560" y="3605040"/>
                    <a:ext cx="173988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5126400" y="17287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7920" y="4383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39240" y="4421160"/>
            <a:ext cx="766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925640" y="4371840"/>
          <a:ext cx="2247840" cy="435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25640" y="4371840"/>
                    <a:ext cx="224784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58880" y="4941720"/>
          <a:ext cx="1765080" cy="435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58880" y="4941720"/>
                    <a:ext cx="176508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846520" y="4951440"/>
          <a:ext cx="1788840" cy="387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846520" y="4951440"/>
                    <a:ext cx="17888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989600" y="4938840"/>
          <a:ext cx="1739880" cy="3873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989600" y="4938840"/>
                    <a:ext cx="17398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10720" y="5451480"/>
            <a:ext cx="38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10 - 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f(x)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is positive for    -1 &lt;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&lt;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06960" y="855720"/>
            <a:ext cx="2746440" cy="200808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735600" y="48736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6120" y="848160"/>
            <a:ext cx="5783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aph of a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ntersects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xis at (–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)  as show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point of inflexion at (0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a maximum tu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at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tch the graph of the derived fu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251240" y="2082960"/>
          <a:ext cx="432000" cy="45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51240" y="2082960"/>
                    <a:ext cx="43200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" descr=""/>
          <p:cNvPicPr/>
          <p:nvPr/>
        </p:nvPicPr>
        <p:blipFill>
          <a:blip r:embed="rId11">
            <a:lum bright="16000"/>
          </a:blip>
          <a:stretch/>
        </p:blipFill>
        <p:spPr>
          <a:xfrm>
            <a:off x="2319480" y="2833560"/>
            <a:ext cx="3747960" cy="2735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2"/>
          <a:stretch/>
        </p:blipFill>
        <p:spPr>
          <a:xfrm>
            <a:off x="2913120" y="3040200"/>
            <a:ext cx="2805120" cy="2468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90960" y="3919680"/>
            <a:ext cx="0" cy="623880"/>
          </a:xfrm>
          <a:prstGeom prst="line">
            <a:avLst/>
          </a:prstGeom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46760" y="3208320"/>
            <a:ext cx="0" cy="1335240"/>
          </a:xfrm>
          <a:prstGeom prst="line">
            <a:avLst/>
          </a:prstGeom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48120" y="4486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19760" y="4484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79840" y="375300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m is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40360" y="375300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m is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80720" y="37530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m is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44080" y="53481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i="1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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113600" y="50482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9760" y="837360"/>
            <a:ext cx="52588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d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re defined on suitable domains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expressions f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11200" y="1222200"/>
          <a:ext cx="1260360" cy="297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1200" y="1222200"/>
                    <a:ext cx="12603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496960" y="1201680"/>
          <a:ext cx="1038240" cy="325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96960" y="1201680"/>
                    <a:ext cx="10382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690560" y="1990800"/>
          <a:ext cx="831960" cy="306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90560" y="1990800"/>
                    <a:ext cx="8319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703520" y="2368440"/>
          <a:ext cx="715680" cy="263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03520" y="2368440"/>
                    <a:ext cx="71568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008080" y="2728800"/>
          <a:ext cx="3408480" cy="292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008080" y="2728800"/>
                    <a:ext cx="34084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231920" y="3295800"/>
          <a:ext cx="1919160" cy="363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31920" y="3295800"/>
                    <a:ext cx="191916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383760" y="3259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18040" y="3273480"/>
          <a:ext cx="1008000" cy="341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218040" y="3273480"/>
                    <a:ext cx="10080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816440" y="3238560"/>
          <a:ext cx="2141640" cy="3715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816440" y="3238560"/>
                    <a:ext cx="21416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147080" y="3259080"/>
          <a:ext cx="1023840" cy="3319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147080" y="3259080"/>
                    <a:ext cx="10238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83040" y="3876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247760" y="3876840"/>
          <a:ext cx="1990800" cy="3412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247760" y="3876840"/>
                    <a:ext cx="19908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546360" y="3852720"/>
          <a:ext cx="2459160" cy="3906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546360" y="3852720"/>
                    <a:ext cx="24591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209600" y="4336920"/>
          <a:ext cx="3098880" cy="39060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1209600" y="4336920"/>
                    <a:ext cx="30988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764240" y="4322880"/>
          <a:ext cx="2827080" cy="3902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764240" y="4322880"/>
                    <a:ext cx="282708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103400" y="4732200"/>
          <a:ext cx="2975040" cy="6098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1103400" y="4732200"/>
                    <a:ext cx="2975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668840" y="4842000"/>
          <a:ext cx="2309760" cy="39024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4668840" y="4842000"/>
                    <a:ext cx="230976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692600" y="5243400"/>
          <a:ext cx="1768680" cy="39060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4692600" y="5243400"/>
                    <a:ext cx="17686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939000" y="46702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4520" y="899280"/>
            <a:ext cx="4978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agram shows the graphs of two quadr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graphs have a minimum turning point at (3,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etch the graph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on the sam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etch the graph of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355760" y="1212840"/>
          <a:ext cx="2465280" cy="33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55760" y="1212840"/>
                    <a:ext cx="2465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376360" y="1920960"/>
          <a:ext cx="895320" cy="293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76360" y="1920960"/>
                    <a:ext cx="89532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325600" y="2638440"/>
          <a:ext cx="892440" cy="297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25600" y="2638440"/>
                    <a:ext cx="8924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1" name="" descr=""/>
          <p:cNvPicPr/>
          <p:nvPr/>
        </p:nvPicPr>
        <p:blipFill>
          <a:blip r:embed="rId14"/>
          <a:stretch/>
        </p:blipFill>
        <p:spPr>
          <a:xfrm>
            <a:off x="6454800" y="888840"/>
            <a:ext cx="2284560" cy="17402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5"/>
          <a:stretch/>
        </p:blipFill>
        <p:spPr>
          <a:xfrm>
            <a:off x="3494160" y="2685960"/>
            <a:ext cx="3406680" cy="2594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919760" y="4703760"/>
            <a:ext cx="15876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78440" y="4137120"/>
            <a:ext cx="0" cy="609480"/>
          </a:xfrm>
          <a:prstGeom prst="line">
            <a:avLst/>
          </a:prstGeom>
          <a:ln w="3816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906720" y="2960280"/>
            <a:ext cx="2872080" cy="2946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222720" y="3932280"/>
            <a:ext cx="4221000" cy="1479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86560" y="364500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y=g</a:t>
            </a:r>
            <a:r>
              <a:rPr b="0" i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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17680" y="266544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00"/>
                </a:solidFill>
                <a:latin typeface="Times New Roman"/>
              </a:rPr>
              <a:t>y=f</a:t>
            </a:r>
            <a:r>
              <a:rPr b="0" i="1" lang="en-GB" sz="2400" spc="-1" strike="noStrike">
                <a:solidFill>
                  <a:srgbClr val="ff9900"/>
                </a:solidFill>
                <a:latin typeface="Symbol"/>
                <a:ea typeface="Symbol"/>
              </a:rPr>
              <a:t></a:t>
            </a:r>
            <a:r>
              <a:rPr b="0" i="1" lang="en-GB" sz="2400" spc="-1" strike="noStrike">
                <a:solidFill>
                  <a:srgbClr val="ff9900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4:02:10Z</dcterms:created>
  <dc:creator>Derek Warburton</dc:creator>
  <dc:description/>
  <dc:language>en-US</dc:language>
  <cp:lastModifiedBy>Derek Warburton</cp:lastModifiedBy>
  <dcterms:modified xsi:type="dcterms:W3CDTF">2004-05-17T20:33:13Z</dcterms:modified>
  <cp:revision>289</cp:revision>
  <dc:subject/>
  <dc:title>PowerPoint Presentation</dc:title>
</cp:coreProperties>
</file>